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E1B-F9C1-4B55-BBCE-AFCF80B0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B227-E557-4967-89DF-CFB5A57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468-BDD6-4A90-8814-A6EF5DB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FB3-1A79-47FC-A1E8-A20208E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88D-15F6-4D8E-B988-93911528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61A-BC84-4CE5-8AD8-96AD387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915-48C0-4CEB-948B-49A68DD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6D5-3993-46AA-8A5B-C0F04224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28C-21FB-404C-AF52-A188D15E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E38-9809-40FB-A99D-90C7570D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590-4FA7-46D7-BF82-C009C7E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7F0-C97B-4048-A4B7-096C38D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E0A7-C0F1-44CE-9736-3DD6902356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19240"/>
            <a:ext cx="8915400" cy="45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nt 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为“搜寻”、“寻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’ve been hunting for you everyw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一直在到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y are hunting for a house to l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正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寻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租的房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45:12Z</dcterms:created>
  <dc:creator>zhangjunguang</dc:creator>
  <dc:description/>
  <dc:language>en-US</dc:language>
  <cp:lastModifiedBy>zhangjunguang</cp:lastModifiedBy>
  <dcterms:modified xsi:type="dcterms:W3CDTF">2003-08-06T13:45:30Z</dcterms:modified>
  <cp:revision>1</cp:revision>
  <dc:subject/>
  <dc:title>PowerPoint 演示文稿</dc:title>
</cp:coreProperties>
</file>